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C7D-77CA-40C6-AE75-792F4C14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77A-313F-401F-B3FC-2A9D004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E10-15CC-4142-95D9-9D097F4F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98F-C11C-458C-92B3-CF5EAE43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11B-97EF-48A8-BD31-4BF1DA3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7C0-A33A-4ADA-9986-A9835DB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2CF-8A19-48AA-8A8B-CA0E00CF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1F8-258D-4789-9057-E7026714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93B-8B3D-45AF-A79B-85E21A8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619-0ADE-4036-A963-69E712E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BE8-4EE5-4353-8DBC-82A3AD5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814-9C2A-49F1-8683-6F22110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850-ABC2-4496-9CBA-00D044B9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628640"/>
            <a:ext cx="7867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e opening ceremon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476360" y="1700280"/>
            <a:ext cx="5759640" cy="2665440"/>
            <a:chOff x="1476360" y="1700280"/>
            <a:chExt cx="5759640" cy="2665440"/>
          </a:xfrm>
        </p:grpSpPr>
        <p:sp>
          <p:nvSpPr>
            <p:cNvPr id="43" name=""/>
            <p:cNvSpPr/>
            <p:nvPr/>
          </p:nvSpPr>
          <p:spPr>
            <a:xfrm rot="10800000">
              <a:off x="1476360" y="1700280"/>
              <a:ext cx="1440000" cy="26654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700280"/>
              <a:ext cx="1368720" cy="26654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16360" y="1700280"/>
              <a:ext cx="295092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708360" y="126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26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4869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x 70 = A = 6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6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63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537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of circle = 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of circle = 3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 x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= A of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= 3848.451 (to 3 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48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8728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59280" y="19159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321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763640" y="1197000"/>
            <a:ext cx="4321080" cy="3744720"/>
            <a:chOff x="1763640" y="1197000"/>
            <a:chExt cx="4321080" cy="3744720"/>
          </a:xfrm>
        </p:grpSpPr>
        <p:sp>
          <p:nvSpPr>
            <p:cNvPr id="61" name=""/>
            <p:cNvSpPr/>
            <p:nvPr/>
          </p:nvSpPr>
          <p:spPr>
            <a:xfrm>
              <a:off x="2484360" y="1628640"/>
              <a:ext cx="3600360" cy="331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56000" y="155736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40000" y="1700280"/>
              <a:ext cx="0" cy="32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24360" y="119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3640" y="2997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1989000"/>
              <a:ext cx="1008000" cy="10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16360" y="3573360"/>
              <a:ext cx="100800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6360" y="1989000"/>
              <a:ext cx="1008000" cy="10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3645000"/>
              <a:ext cx="100836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3280" y="2276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71640" y="5373720"/>
            <a:ext cx="61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,000 people take up 3,00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,000 x 0.25 = 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can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836640"/>
            <a:ext cx="76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number of people is 40,593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593 x 0.25 = 10,148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3:09Z</dcterms:created>
  <dc:creator>HewittH</dc:creator>
  <dc:description/>
  <dc:language>en-US</dc:language>
  <cp:lastModifiedBy>HewittH</cp:lastModifiedBy>
  <dcterms:modified xsi:type="dcterms:W3CDTF">2010-03-17T09:56:40Z</dcterms:modified>
  <cp:revision>2</cp:revision>
  <dc:subject/>
  <dc:title>Slide 1</dc:title>
</cp:coreProperties>
</file>